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F354-863B-48EE-8BAB-B2A1F0BEE9F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ide: The type of the variables need not match, just the n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BADC-8DF1-440A-81BC-4E1062C8764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reasons unknown, the class Stack in the Java class library is implemented as a subclass of the cla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F60-D3AD-421A-ACFC-A4FA2F53884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naughty chil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un bambino birich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E84-AA8F-4D2A-91BE-A0FDFCB67EA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20-71FA-4D17-B201-8A5C3E86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428-0414-4F5E-8282-0429C27A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7FF71-192D-4B81-985A-5CAF1EB4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EED60-14FC-4420-AB1B-5F11E964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AE285-FBDF-4F0A-9FAA-1ED125BB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CA751-5E83-49A5-B6CC-F178416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7BE86-F2CB-4393-8A0C-1BFBEC4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19F5A-AF48-47BC-A5B9-22B631D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A54DB-EC7B-4F13-8A68-7C2FA84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A1A9F-9C05-45F7-9AC0-EA0A0196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C33E8-4148-4CB2-A95F-55BECC52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E2D7C-A2DC-4CCE-A225-12DA0E2D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2C3-BBB7-42F2-8119-3778EA0E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FF343-021C-43F6-8CDF-8E03A60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71A1F-2C67-4F0E-B819-053B29A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38B38-9677-46CC-96B2-5C2625E7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6DCE8-E211-4411-8147-F895F37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74EB5-9A76-4286-AC88-CCAB6BB2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ABD7D-320E-418B-93EE-3D575B2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44C1C-6AEA-49A2-86BF-BFEFF02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4C8F3-2B65-431A-84CF-7DBA8296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54948-2E85-4C1F-9BA1-E87A791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DD4CF-7FAD-4811-9D1A-CA865560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920-C4E0-4C82-AE95-AE93920B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B1572-C526-44D2-ABE5-0C3A0CBF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EF9268-2B64-468B-A7C4-DE4A6798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CC728-F66B-4171-AC76-E7356AD7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8AF5B8-DE0F-4642-A0EF-131ECD6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ED8D58-97C5-4D56-9342-63BB78E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A21F5D-E941-4D5C-9D90-94AF7E9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9D3126-8930-4E63-A22F-CC421F30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2C16BD-F108-4C9D-850C-DB26657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5A779-08C7-498F-A526-1CD932A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21CC65-6850-4A42-BF4B-0FD9F1D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576E-9A21-4045-ADF7-03BD8B76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BB296E-859B-4B52-8E86-E2DCF9B1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66515F-3F34-4F7E-A85F-7D370D92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9D9EA7-3FAE-4D47-A847-77F810E9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3E75-F9A6-4765-A9DF-9DFA551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6FC-7DEB-4BE7-BA32-5DED2A23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21F-CD08-4DC1-8E4B-EA1C4C2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C5FD-3519-454D-8F7A-060F6077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172D-AC3E-4FC5-A73C-1CCFC07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894F-2D76-4909-ACDD-54E3C22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FF4-5CB8-4206-9C98-843CE16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DEB-257D-4894-B18A-546AE30B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B93-B543-467D-AF77-E4AFF03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5DDE-15A1-4130-A932-DFA34CD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BA6-F834-4FC9-A14B-C56E0A64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43F-8FC3-44D8-A891-AEDB08FE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6321-16DA-4608-922C-D982701931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3D784-0ABC-4EF6-BA8A-8B6E7D5DF5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A7F38-EDDC-4FB3-AA4A-AB0B1193D4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50732-E699-4F09-BED7-EC9E84573B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57C9F-3161-4FD2-A926-C20455ABB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D8F-5F24-4E91-AE67-6101EB8E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6D2F0-B6A8-4C82-B17C-664F98B8AA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3B3C7-17D9-48F0-9CEE-7D598ED657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78D83-49D5-4FEF-9D04-9DA63CC550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9B0EC-4796-471A-BB8E-C2AC39B955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D200E-F38C-4DFA-B5CD-F76AADD497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8922E-95BC-453E-A300-14CD7BDF0C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055AB-7F90-4A7E-8BD5-9AA6BBAF50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4078F-5862-4DBE-ACF9-268E0B19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85835-F495-4D99-8F94-7B7356D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F2227-80C2-44A3-ACCE-D757D004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886-BB30-4552-B9AF-1D51822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57D4C-0D92-4F64-AF2B-67D8381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87AFB-3CF2-46FD-B3E7-AB41CE6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73A62-BD9F-47DD-8CD2-6D96FCA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963A4-773F-4587-9D80-27BD0AE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DC03C-8F02-4D07-8F85-0EF32A8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A27FE-AF8C-4385-89E9-D1565C5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9F4A1-B545-4FFA-A22A-76109D3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12350-B675-431D-87C8-74F1696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3709C-999E-4194-AC6D-9E1185D2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CF2EF-DE9C-4653-A846-03A2B9A4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9B9-9A14-4E0F-8FC4-AC33DE64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43E4A-2D40-453E-85E7-A953B3B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8DF3E-F566-496C-A3ED-CCFED98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4C88B-E6B4-4152-920F-2142BBA7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24C54-5C02-4520-9FF5-8C80590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8ABA7-C027-4B1C-A592-1881AD3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E6EC7-4714-488A-9ADB-D5FBED1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9A685-FA60-44D5-9A1E-43992D9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88A63-4E1B-4DDB-A3DE-8E56EC33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4E30D-9DE4-4591-8928-3536C4CB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2E3B9-8A9D-4030-902D-FEF2AABF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C26-D12A-4B2E-B160-FE8A9C8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B2D84-FCFE-4DED-A155-3C0EE11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8B2B7F-5FFB-4E1B-B334-16429CA15D4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4C0C8-1F07-4ED5-B186-83403C4263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0B4F3-D392-4C60-8680-630A4617B7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672997-125F-41D9-B6DA-DD2C7C42B8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36802-4D3D-4CB1-8D77-51963C4A70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9BA45-A641-4C29-AEE0-00378E4F19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CC161-F159-4782-A6F0-04A2E49126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FFD25-EFBB-4541-9C64-5E06DB5EDC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A5A11-F3BE-47E7-8BC2-6E5170410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3BC-CE9B-438B-877F-E79B66D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9CE97-65A7-46D0-8A52-311059078C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048B9-9A96-482B-B2CB-9B1D7ADAC0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0E4B2-FBEF-46ED-B6CB-9AE5881EFD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AC3DB-FD43-4801-9205-A93D8634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AC842-6978-42B3-8838-198C044F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23F5D-3C6B-4CAF-8F7F-4AA39AC2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9C356-12D7-4D44-81BF-7D95FE56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CAE72D-397D-4D13-8903-94A83C5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27B16-FB1E-4452-98BB-3B8BAF1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3A983-D2F6-446F-9461-7796B68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163-BA2B-4B00-B53E-EC631EA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3EBBF6-BB5E-4162-813A-1A28835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6BF66C-C690-4A6F-974D-5D7A351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D2024-7474-4B84-AAD6-B16B02E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340575-263C-454E-9279-2DECE89A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FF519-A3E2-4952-9DB0-FEDAB925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C3A7F-F993-4852-9514-9D5D57DB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0123B-CE92-48BF-9000-928AD19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4B7761-29FE-4A06-BD39-D41E4583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702CBB-AF24-4329-841F-268ADC7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A0B84-AF75-4725-8A53-CC5B83F0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0FD-31A0-464B-B995-CB406ED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C3F88-869D-403C-A0F4-0B04874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F22B5-0DC1-4A00-8608-08B85B5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F4084-547C-4284-BCE8-B7ABC82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FBEC6-61C5-44E7-94CC-A5E44AA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140EC8-C69C-4740-99FF-CCE128F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110175-BA7D-4FA1-A271-D85C9E9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1051E-C6CF-4341-B6B8-137952D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B3CB6-CA3F-4B45-8FEF-2EC3B308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2F07C-AD2B-46EB-9AF0-B8E747B1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406D4-61B9-4B59-A45B-C18074FC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763F-A14B-4342-AFA6-33A6A37977C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Cuzc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7496-7CFA-424C-8BC9-704B0DE48C4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Cuzc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098-A85E-4695-BA94-41BFDA1F06B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F0E-99E8-4CF9-BFA2-5363026A62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114264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C59-BBA3-46AC-BCC8-32046526F6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tango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ttango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36BE-DEEE-441C-A326-271FC11B77E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Triangolo isosce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E97-433B-4645-930E-FB159069A9D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5"/>
          </p:nvPr>
        </p:nvSpPr>
        <p:spPr>
          <a:xfrm>
            <a:off x="1295280" y="6356520"/>
            <a:ext cx="739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1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5D60-8AFB-484A-8CA0-C06041AC7BC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Connettore 1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Triangolo isosce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8BE-6D63-418D-8760-5E7E8CF73F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ttango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88F-3DB8-4460-B185-844BBDFC16D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Connettore 1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2FE5-AA3C-4F47-8BAA-0D13D347EA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Delegation vs inheritance</a:t>
            </a:r>
            <a:br>
              <a:rPr sz="3200"/>
            </a:b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0" name="Segnaposto piè di pagina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dde9e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de9ec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dde9ec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Segnaposto numero diapositiva 4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A9D-BA46-4D43-B56D-1C5BBD1022FF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chan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066320"/>
            <a:ext cx="838224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a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field in the subclass that refers to an instance of the superclass. Initialize it to th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ge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each method defined in the subclass to use the delegate fiel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Compile &amp;test after changing each metho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You won’t be able to replace any methods that invoke a method on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super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that is defined on the subclass, or they may get into an infinite recurse. These methods can be replaced only after you have broken the inheritanc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Remove the subclass declaratio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place the delegate assignment with an assignment to a new 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ach superclass method used by a client, add a simple delegating metho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ile and t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6294-542A-4C84-95F6-B7F4647BF5BA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terface inheritance vs class inheri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lass inheritance: implementation re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dangerous when overiding to noth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See the non flying (rubber) duck in the head first book,  p. 4-5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terface Inheritance:  sub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lyable and Quackable duck, subtypes of Duck, with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ly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quack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functionalities, resp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But then no code reuse for those funcionalit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And… there might be different fly behaviours even among the ducks that do fl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4327-C9C0-4F73-A27C-7882DFF5B9BE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legation (When not using inheritance) [Mark Grand98]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a common way of extending and reusing the functionality of a class. However, inheritance is inappropriate for many situa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heritance is useful for capturing is-a-kind-of relationships which are rather static in natur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-a-role-played-by relationships are awkward to model by inheritance, where delegation could be a better choice. Using instances of a class to play multipl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E795-8233-467A-ADD9-2E871D3845B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changing ro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where roles interchang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example, an airline reservation system may include such roles as passenger, ticket selling agent and flight crew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class called Person may use subclasses corresponding to each of thes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14A-14D9-4688-BE38-C1EBB9FA2862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87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blem is that the same person can fill more than one of thes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erson who is normally part of a flight crew can also be a passenger…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s way, the number of subclasses would increase exponential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FB4-7B89-46AC-9A65-7E8E165D61A2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164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f person A, CrewMember,  becomes now also a Passenger,  a new object Passenger is created, referring 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7E8-B1EC-431F-9FA8-86D6FF2F8CB0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486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4120" y="49118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ut then problems with using the specific methods, which were unforese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6B4A-9E04-48DE-ACF1-68B2C6E5A885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30003" t="46001" r="29377" b="26003"/>
          <a:stretch/>
        </p:blipFill>
        <p:spPr>
          <a:xfrm>
            <a:off x="412920" y="1066680"/>
            <a:ext cx="8305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egnaposto numero diapositiva 6"/>
          <p:cNvSpPr/>
          <p:nvPr/>
        </p:nvSpPr>
        <p:spPr>
          <a:xfrm>
            <a:off x="68580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58D-1A7B-4D76-AFAD-12E6B9B07715}" type="slidenum">
              <a:rPr b="1" lang="it-IT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 killing ex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If you want to let the Window client change the implementation of area, you need define different specializations, and rebuild the whole object to perform the chang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7" descr="InherVsComp1"/>
          <p:cNvPicPr/>
          <p:nvPr/>
        </p:nvPicPr>
        <p:blipFill>
          <a:blip r:embed="rId1"/>
          <a:stretch/>
        </p:blipFill>
        <p:spPr>
          <a:xfrm>
            <a:off x="4859280" y="1295280"/>
            <a:ext cx="3816360" cy="3745080"/>
          </a:xfrm>
          <a:prstGeom prst="rect">
            <a:avLst/>
          </a:prstGeom>
          <a:ln w="0">
            <a:noFill/>
          </a:ln>
        </p:spPr>
      </p:pic>
      <p:sp>
        <p:nvSpPr>
          <p:cNvPr id="561" name="Segnaposto piè di pagina 3"/>
          <p:cNvSpPr/>
          <p:nvPr/>
        </p:nvSpPr>
        <p:spPr>
          <a:xfrm>
            <a:off x="1981080" y="6356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57200" y="53341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 you can't change the implementation inherited from super classes at runtime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egnaposto numero diapositiva 6"/>
          <p:cNvSpPr/>
          <p:nvPr/>
        </p:nvSpPr>
        <p:spPr>
          <a:xfrm>
            <a:off x="6858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89A-D529-4AF8-BB3C-1F56124E9806}" type="slidenum">
              <a:rPr b="1" lang="it-IT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 killing ex. </a:t>
            </a:r>
            <a:r>
              <a:rPr b="0" lang="it-IT" sz="1600" spc="-1" strike="noStrike">
                <a:solidFill>
                  <a:srgbClr val="464653"/>
                </a:solidFill>
                <a:latin typeface="Bookman Old Style"/>
              </a:rPr>
              <a:t>(cont’d)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With delegation, you only need to change the object relative to the delegated operation you want to 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6" name="Picture 7" descr="InherVsComp2"/>
          <p:cNvPicPr/>
          <p:nvPr/>
        </p:nvPicPr>
        <p:blipFill>
          <a:blip r:embed="rId1"/>
          <a:stretch/>
        </p:blipFill>
        <p:spPr>
          <a:xfrm>
            <a:off x="395280" y="1484280"/>
            <a:ext cx="7921800" cy="34322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8"/>
          <p:cNvSpPr/>
          <p:nvPr/>
        </p:nvSpPr>
        <p:spPr>
          <a:xfrm>
            <a:off x="4325040" y="1773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ectangl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8" name="Segnaposto piè di pagina 3"/>
          <p:cNvSpPr/>
          <p:nvPr/>
        </p:nvSpPr>
        <p:spPr>
          <a:xfrm>
            <a:off x="1905120" y="6400800"/>
            <a:ext cx="708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langu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Java or C#, an object cannot change its type once it has been instanti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, if your object need to appear as a different object or behave differently depending on an object state or conditions, then use Composi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fer to State and Strategy Design Patter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f the object need to be of the same type, then use Inheritance or implement interfa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0DD7-BBF5-449C-B84D-532842B00BEB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legation vs inheritance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[Mark Grand98]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fines a new class, which use the interface of a parent class while adding extra, more problem-specific method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 a way of reusing and extending the behavior of a class by writing a new class that incorporates the functionality of the original class by using an instance of the original class and calling its method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.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sue in OO is if a class A should inherit from B or A should use B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FC84-D336-4842-B960-680B3EF677B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hi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if you end up in a situation where a class is trying to hide a method or variable inherited from a super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you define a field in a subclass that has the same name as an accessible field in its superclass, the subclass's field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hide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the superclass's version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if a superclass declares a public field, subclasses will either inherit or hide it. (You can't override a field.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a subclass hides a field, the superclass's version is still part of the subclass's object data; however methods in the subclass can access the superclass's version only by using the super keyword, as in super.fieldNam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A192-8B69-4664-A227-14FB3EBF559A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utility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of a utility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you're not in control of the parent class and it may change scope later (inheriting java.util.Vector is a very, very bad idea since sun may later declare methods deprecated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's always easier to replace changing a class you just use – than one you inherit from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sides, inheritance exposes a subclass to details of its parent's class implementation, that's why it's often said that inheritance breaks encapsulation (in a sense that you really need to focus on interfaces only not implementation, so reusing by sub classing is not always preferred)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7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1FC-D1ED-48EA-9154-FC2685F7AF93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ces where not to use inheritance (but rather delegation)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from a class, which is written very specifically to a narrow problem - because that will make it more difficult to inherit from another class lat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ient classes that use the problem domain class may be written in a way that assumes the problem domain class is a subclass of the utility clas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implementation of the problem domain changes in a way that results in its having a different superclass, those client classes that rely on its having its original superclass will break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AA1-432C-49BD-AA7F-4815A3BFE773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otential Drawbacks of Deleg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may be some minor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erformance penalt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invoking an operation across object boundaries as opposed to using an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herited metho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can’t be used with partially </a:t>
            </a:r>
            <a:r>
              <a:rPr b="0" lang="it-IT" sz="2600" spc="-1" strike="noStrike">
                <a:solidFill>
                  <a:srgbClr val="ff0000"/>
                </a:solidFill>
                <a:latin typeface="Gill Sans MT"/>
              </a:rPr>
              <a:t>abstract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uninstantiable) cla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does not impos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ny disciplined </a:t>
            </a:r>
            <a:r>
              <a:rPr b="0" lang="it-IT" sz="2600" spc="-1" strike="noStrike">
                <a:solidFill>
                  <a:srgbClr val="ff0000"/>
                </a:solidFill>
                <a:latin typeface="Gill Sans MT"/>
              </a:rPr>
              <a:t>structur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 the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8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9EB-2260-4C80-BFC4-4D8D5B5CCCC9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a wonderful thing, but sometimes it isn’t what you wan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ften you start inheriting from a class but then find that many of th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superclass operations aren’t really true of the subclass.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 this case you have an interface that’s not a true reflection of what the class do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r you may find that you ar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inheriting a whole load of data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at is not appropriate for the subclas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r you may find that there ar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protected superclass methods that don’t make much sense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ith the subclas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DDA6-C119-4E85-9E3F-5547B39DAC6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ivation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live with the situation and use convention to say that although it is a subclass, it’s using only part of the superclass func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that results in code that says one thing when your intention is something else—a confusion you should remov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Gill Sans MT"/>
              </a:rPr>
              <a:t>By using deleg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stead, you make it clear that you are making only partial use of the delegated class.  You control which aspects of the interface to take and which to igno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ill Sans MT"/>
              </a:rPr>
              <a:t>The cos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extra delegating methods that are boring to write but are too simple to go wro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13C-F3AD-47C4-BC0D-3213939A025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place Inheritance with Deleg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a field for the superclass, adjust methods to delegate to the superclass, and remove the subclas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767-56AB-48FD-9632-8F362DC5CB39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rcRect l="16875" t="31001" r="18124" b="25001"/>
          <a:stretch/>
        </p:blipFill>
        <p:spPr>
          <a:xfrm>
            <a:off x="609480" y="2362320"/>
            <a:ext cx="7925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e of the classic examples of inappropriate inheritance is making a stack a subclass of vector.  Java does this in its utilities (naughty boys!), but in this case I use a simplified form of stac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MyStack extends Vector 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56360" indent="-210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void push(Object element) {insertElementAt(element,0); }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6360" indent="-210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Object pop() { Object result = firstElement();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moveElementAt(0); return resul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oking at the users of the class, I realize that clients do only four things with stack: push, pop, size, and isEmpty. The latter two are inherited from Vec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71E-5BBD-4A5F-B9C0-9995F12C053A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begin the delegation by creating a field for the delegated vector. I link this field to this so that I can mix delegation and inheritance while I carry out the refactoring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168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Vector _vector = this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I start replacing methods to get them to use the delegation. I begin with push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168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void push(Object element) {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_vector.insertElementAt(element,0); }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can compile and test here, and everything will still wor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9DB-BAB0-4FDE-9856-6D324DA993D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w pop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public Object pop() {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result = _vector.firstElement()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vector.removeElementAt(0)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result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A0CF-0EE1-4234-B9EF-FFCED7C07253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I’ve completed these subclass methods, I need to break the link to the superclas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MyStack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Vector _vector = new Vector()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then add simple delegating methods for superclass methods used by cli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int size() { return _vector.size(); }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boolean isEmpty() { return _vector.isEmpty(); }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I can compile and test. If I forgot to add a delegating method, the compilation will tell 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D3D-5F0F-46D6-B555-EA22F50638C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 Semini</cp:lastModifiedBy>
  <cp:lastPrinted>2016-09-22T10:48:42Z</cp:lastPrinted>
  <dcterms:modified xsi:type="dcterms:W3CDTF">2019-03-29T10:37:34Z</dcterms:modified>
  <cp:revision>4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